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D26-04A1-43A9-8D7D-7B81D827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43B-4D69-42BB-8E6C-F3B0B025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B1F-9A63-480B-80C9-0A2099F7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AE8-9DCE-4E2F-AD4D-E6778A23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A52-9EDA-4B87-9E82-3B71EF32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F8D-B92F-4640-A798-12D02BCA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413-EF8F-49C8-8FFF-1727FB4C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37D-FC30-42E9-9715-92AF766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906-3200-4B3B-B3E0-944EC537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4F5-91F8-45ED-8E8B-B7DFACC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798-5C71-43C9-B191-295FE42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FF3-CAB3-4108-B36F-DA14134D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F97B-2279-4283-A1F9-4028572206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Participation in IHO Reg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esentation to PAP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3 Ma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Maritime Data Structure is a top-level requirement for e-navi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HO has established a GI Registry, governed by S-100 &amp;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MO NAV 57 agreed on IHO Registry as baseline for the collection, exchange, and distribution o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Council 52 approved registration of IALA at IHO as a Submitting Organization &amp; domain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operational procedures in Guideline conform to IHO standard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IHO Reg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97000" y="1357200"/>
            <a:ext cx="65898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Process in I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-100 flowchart"/>
          <p:cNvPicPr/>
          <p:nvPr/>
        </p:nvPicPr>
        <p:blipFill>
          <a:blip r:embed="rId1"/>
          <a:stretch/>
        </p:blipFill>
        <p:spPr>
          <a:xfrm>
            <a:off x="1714680" y="1285920"/>
            <a:ext cx="5643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IALA Organizational Cha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cintosh HD:Users:Mike:Documents:A_Work:IALA:Committees:e-NAV Committee:e-NAV11 Mar12:Report inputs:IALA Org chart.jpg"/>
          <p:cNvPicPr/>
          <p:nvPr/>
        </p:nvPicPr>
        <p:blipFill>
          <a:blip r:embed="rId1"/>
          <a:stretch/>
        </p:blipFill>
        <p:spPr>
          <a:xfrm>
            <a:off x="777960" y="1000080"/>
            <a:ext cx="7588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elds: AtoNs, VTS, AIS, Risk Analysis, WWR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VEF – Technical WG in VTS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N Information – e-NAV lead, ANM &amp; EEP provide input (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S – applications to b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 Analysis – IWR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RN – applications to be identif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HO Registry is the baseline for CM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-100 gives a framework for data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accommodate IALA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impact on IALA,  but also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7:06:38Z</dcterms:created>
  <dc:creator>Nick Ward</dc:creator>
  <dc:description/>
  <dc:language>en-US</dc:language>
  <cp:lastModifiedBy>Nick Ward</cp:lastModifiedBy>
  <dcterms:modified xsi:type="dcterms:W3CDTF">2012-05-03T05:31:05Z</dcterms:modified>
  <cp:revision>5</cp:revision>
  <dc:subject/>
  <dc:title>IALA Participation in IHO Registry</dc:title>
</cp:coreProperties>
</file>